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D0A-0A5B-4F74-B3ED-FE8550B7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B5B-F77C-4B5F-8B77-3BA3390C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4A6-07C6-4547-A3F1-5AFBA017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929-F593-4F99-8DDF-BFD6DE84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FF9F-A025-4995-BF25-834E6165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E303-20C5-4E7D-8630-8D667CD9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446C-38B9-41C4-89C8-708C7ACE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214F-9C34-4B55-9C6C-0C996584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6D98-4425-4490-943C-298E80DF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AD05-2BB8-4115-B4A7-82E31D8D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C9C5-889C-4534-A944-473072B8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37B-2B22-44A4-B336-B0082F36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32D2-6651-441B-B192-18EF8FFD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71BF-7228-4F7B-AE59-B659F409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439D-A538-4193-8DB9-B3747A7B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4F39-7423-4DE9-89DE-42BC8D3D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B6F8-B876-436E-8B7C-9BADA41A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422-4480-4671-98F1-3E882B94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423-EABB-436D-BEF9-A9D672C3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E19-D129-479D-A8A1-6D7C02B6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486-7E9D-4C0A-A3DE-9258E8CF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066-FE8B-4B1E-A7D8-AFAD602F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E46-28FE-4B2C-A2E2-72C59F79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146-F649-4CBE-8E8B-1E967452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F03E-09BB-499B-9BD2-47284D3946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E621-D8B7-43F4-A716-1E499EC0235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Ordeal of Reconstruction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. 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65-18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u Klux Kla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s began to hold major offices in gover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 Klux Klan founded in TN, 1866, by white southerners angered by the success of blac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ed through intimid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utal murd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32194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ohnson’s Impeachmen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nure of Office Act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quired president to obtain consent of congress before he removes cabinet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son dismisses Secretary of War Edwin Stan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use of Representatives votes for his impeach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4849920"/>
            <a:ext cx="30286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ohnson’s Impeachmen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use of Representatives prosecuted Johnson, Senate served as the cour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 argued that the Tenure of Office Act was unconstitu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ate voted president not guilty by margin of one vo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dical Republicans did not get necessary 2/3 majority to remove presi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ar of abusing checks &amp; balances and consideration of Johnson’s replacement (Ben Wade) caused senate vo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ward's Folly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retary of State William Seward signed a treaty w/ Russia that transferred Alaska to the United States for $7.2 million (186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upported by American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ch in resources &amp; didn’t want to anger Russ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29000" y="4867200"/>
            <a:ext cx="29527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ritage of Reconstruc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therners felt it was a more painful process than the war it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ublican party extinguished itself in the south for nearly 100 yea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90920" y="4038480"/>
            <a:ext cx="35049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blems of Pe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 Johnson pardoned Confederate leaders, 18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dom” for blacks- uneven in Confede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rch became focus of black community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opportunity for educ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edmen’s Bureau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created the Freedmen’s Bureau b/c freedmen were unskilled, uneducated &amp; w/o money (1865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 by Oliver How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fare Agency”- provided clothes, food, medical care and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est accomplishment: teaching blacks to rea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ired in 1872 b/c Johnson despised 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7337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ial Reconstruc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- southerner, Democra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0 Percent Reconstruction Plan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inco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 could be readmitted to union when 10% of its voters (1860 election) took an oath of allegi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de-Davis Bi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1864)- required 50% of states’ voters to take o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coln refused to s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 Republican part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jority agreed w/ Linco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nority felt south should suffer greatl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ial Reconstruc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son’s Pl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ed for special state con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l decrees of sec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udiate all confederate deb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fy 1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72200" y="3657600"/>
            <a:ext cx="2403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ack Co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med to ensure a subservient &amp; stable labor fo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ted affairs of emancipated sl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ecropping- plantation owners rented out pieces of their land to bla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st of rent was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und by contract to work until debts repai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sh penal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cked idea of free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posed by Republica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77120" y="4629240"/>
            <a:ext cx="2214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gressional Reconstruct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ember 1865- Southern states again represent themselves in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th had more control in congress than bef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s now counted as a whole pers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son announces on December 6, 1865 that southern states had met conditions &amp; union is now resto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ered Republic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Sumner led Radical Republicans in senate, Thaddeus Stevens led in H.O.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ohnson clashes with congres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s when Johnson vetoes Freedmen’s Bureau b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ivil Rights Bill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ssed by congress (controlled by Republican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ve blacks citizenship r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uck at the Black C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4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amendment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ssed by Congress in 1866, gave citizenship &amp; civil rights to African Americ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ublicans agreed southern states could not join union w/o ratifying 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mend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construction by the Sword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construction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vided the south into 5 military districts- commanded by union general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s had to ratify 1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mendment &amp; allow former male slaves right to vote to be readmitt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5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amendment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ssed by congress in 1869, granted black men the right to vo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77- last federal arms removed from Southern politic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52880" y="5286240"/>
            <a:ext cx="1544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3:53:56Z</dcterms:created>
  <dc:creator>emily.johnson</dc:creator>
  <dc:description/>
  <dc:language>en-US</dc:language>
  <cp:lastModifiedBy>emily.johnson</cp:lastModifiedBy>
  <dcterms:modified xsi:type="dcterms:W3CDTF">2012-12-13T15:23:23Z</dcterms:modified>
  <cp:revision>5</cp:revision>
  <dc:subject/>
  <dc:title>The Ordeal of Reconstruction </dc:title>
</cp:coreProperties>
</file>